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5B0-CF68-4D38-96CD-EF893622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966-44D2-4D50-B666-5476F873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D14-B4E2-4427-A54E-D1BC37F8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EFA-DD7F-4AFE-BF28-92F6BD28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1B9E-2F18-482B-8E76-D569F4D3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26DA-360C-45CC-8C1C-3E11818A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2A64-B1BC-4DC3-9A11-5A2176E4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B220-45EA-4F0C-8526-8D38689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C4A1-DCE1-4FFB-841D-DFA0EE8C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3BD6-84B9-48AC-8400-A77FA63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B05-C45A-45CF-B19F-BB10F5A4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293-CEC4-48C1-9626-24A8023C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7F7B-C82C-4A84-8A11-316F9F5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85F-3AA6-4494-A5EA-6CCC18A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8657-02ED-4E58-976F-B41A4C47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62E5-E553-4E81-B13F-A3594BD1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507D-CFAD-4D1F-AF4C-65FC8A17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6D8-A9C7-471A-9460-9C6B9AD2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78A-D70E-4851-9776-EC54F5E7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F96-FB50-429A-B08B-C00556F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438-CB15-4F32-B03E-57A1A5CA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8DAE-1079-437D-A4A0-36BF271D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7D4-04BE-47F7-B7B1-E24C2E0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DDB-189A-48C7-B275-447D7BFF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D694-5486-41EE-A2F4-B0AF7CA21D1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469D-D37F-46DD-88D1-3D87FE43CC4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CLASE DE ESPANO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RA Y T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ESCUE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LAPI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CRAY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LIB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TIJ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PAP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MOCHI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73356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76920" y="4343400"/>
            <a:ext cx="1523880" cy="1819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58000" y="441972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 ROP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TAL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ST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FA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I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ET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1838160" cy="1832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32004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AS ESTACION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VE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E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O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2587680" cy="1722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038480" y="403848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934320" y="434340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54160" y="2352600"/>
            <a:ext cx="32356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28:57Z</dcterms:created>
  <dc:creator>WSFCS Workstation</dc:creator>
  <dc:description/>
  <dc:language>en-US</dc:language>
  <cp:lastModifiedBy>WSFCS Workstation</cp:lastModifiedBy>
  <dcterms:modified xsi:type="dcterms:W3CDTF">2010-04-27T18:55:01Z</dcterms:modified>
  <cp:revision>3</cp:revision>
  <dc:subject/>
  <dc:title>LA CLASE DE ESPANOL</dc:title>
</cp:coreProperties>
</file>